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5.jpeg" ContentType="image/jpeg"/>
  <Override PartName="/ppt/media/image8.png" ContentType="image/png"/>
  <Override PartName="/ppt/media/image13.png" ContentType="image/pn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19.jpeg" ContentType="image/jpeg"/>
  <Override PartName="/ppt/media/image11.png" ContentType="image/pn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9.png" ContentType="image/png"/>
  <Override PartName="/ppt/media/image22.jpeg" ContentType="image/jpeg"/>
  <Override PartName="/ppt/media/image2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F54B-6FA6-4475-B164-D738FBEC6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CA7A-B628-4636-A2D4-AAB54420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BB8D-4EB4-4193-BFFB-060E3E36A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A081-BB85-447A-88A7-B52D08C66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609C-B624-41C7-A7EF-DBD7138EE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2AA5-EB47-46A7-9046-7AE5889B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1C2D-D4B8-4E23-8E72-83831016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28F5-00F8-41D4-822C-2012BB2D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DEF5-AB53-4A90-949F-9AEB2EA8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5BC7-7D1C-4DAA-A250-0C2CF245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8AE9-D385-4534-B828-93614750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851E-71A1-4B9A-9B7D-8AAC79C9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1DC3-213E-40D9-B403-5CD26B60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1CF4-09BA-48CD-BB3D-5235D223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2597-7A82-4C7D-948A-EC35E0C6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717C-36AD-4ED7-BAF1-0C3A48968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4215-DA1F-4938-9DF4-E8043E0CC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87B6-F141-4672-B278-584ABE7C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950F-3F68-46C1-9345-95F9E02D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EB0B-4EC8-4910-A044-28AE7AEA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8403-F85A-4754-8A63-CAF6520B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392A-226C-4B35-A8DB-8BE3EA3B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8FDC-9453-480C-9CFE-42B2BB34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ADE4-56EE-4D18-981F-EDCF4261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5E30-C92F-48C3-8F14-5B47484F3BD1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37" name="" descr=""/>
            <p:cNvPicPr/>
            <p:nvPr/>
          </p:nvPicPr>
          <p:blipFill>
            <a:blip r:embed="rId2"/>
            <a:stretch/>
          </p:blipFill>
          <p:spPr>
            <a:xfrm>
              <a:off x="4419720" y="3352680"/>
              <a:ext cx="314280" cy="31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904E-1360-4981-9CFE-2F0A03537DB9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6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olitics and Life in the 1920’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US History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hapter 27-29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200400" y="15840"/>
            <a:ext cx="4495680" cy="8222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383a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Eurostile"/>
              </a:rPr>
              <a:t>    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057400" y="5851440"/>
            <a:ext cx="6629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3300"/>
                </a:solidFill>
                <a:latin typeface="Comic Sans MS"/>
              </a:rPr>
              <a:t>“</a:t>
            </a:r>
            <a:r>
              <a:rPr b="1" lang="en-US" sz="2500" spc="-1" strike="noStrike">
                <a:solidFill>
                  <a:srgbClr val="cc3300"/>
                </a:solidFill>
                <a:latin typeface="Comic Sans MS"/>
              </a:rPr>
              <a:t>If Capital &amp; Labor Don’t Pull Together” – </a:t>
            </a:r>
            <a:r>
              <a:rPr b="1" i="1" lang="en-US" sz="2500" spc="-1" strike="noStrike">
                <a:solidFill>
                  <a:srgbClr val="cc3300"/>
                </a:solidFill>
                <a:latin typeface="Comic Sans MS"/>
              </a:rPr>
              <a:t>Chicago Tribune</a:t>
            </a:r>
            <a:endParaRPr b="0" lang="en-US" sz="25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rcRect l="0" t="0" r="0" b="10606"/>
          <a:stretch/>
        </p:blipFill>
        <p:spPr>
          <a:xfrm>
            <a:off x="2887560" y="762120"/>
            <a:ext cx="4808520" cy="487656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7391520" cy="8222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383a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6699"/>
                </a:solidFill>
                <a:latin typeface="Eurostile"/>
              </a:rPr>
              <a:t>Consequences of Labor Unrest</a:t>
            </a:r>
            <a:endParaRPr b="0" lang="en-US" sz="3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676520" y="61722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While We Rock the Boat” – </a:t>
            </a: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Washington Tim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rcRect l="0" t="0" r="0" b="12504"/>
          <a:stretch/>
        </p:blipFill>
        <p:spPr>
          <a:xfrm>
            <a:off x="304920" y="1143000"/>
            <a:ext cx="4348080" cy="487692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2133360" cy="40384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383a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Eurostile"/>
              </a:rPr>
              <a:t>Coal Miners’ Strike - 1919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209680" y="6095880"/>
            <a:ext cx="6477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Comic Sans MS"/>
              </a:rPr>
              <a:t>“</a:t>
            </a:r>
            <a:r>
              <a:rPr b="1" lang="en-US" sz="2600" spc="-1" strike="noStrike">
                <a:solidFill>
                  <a:srgbClr val="cc3300"/>
                </a:solidFill>
                <a:latin typeface="Comic Sans MS"/>
              </a:rPr>
              <a:t>Keeping Warm” – </a:t>
            </a:r>
            <a:r>
              <a:rPr b="1" i="1" lang="en-US" sz="2600" spc="-1" strike="noStrike">
                <a:solidFill>
                  <a:srgbClr val="cc3300"/>
                </a:solidFill>
                <a:latin typeface="Comic Sans MS"/>
              </a:rPr>
              <a:t>Los Angeles Times</a:t>
            </a:r>
            <a:endParaRPr b="0" lang="en-US" sz="26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>
            <a:lum contrast="6000"/>
          </a:blip>
          <a:srcRect l="0" t="0" r="0" b="8698"/>
          <a:stretch/>
        </p:blipFill>
        <p:spPr>
          <a:xfrm>
            <a:off x="3459240" y="914400"/>
            <a:ext cx="4008240" cy="510552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61760" y="1294920"/>
            <a:ext cx="1981080" cy="22100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383a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Eurostile"/>
              </a:rPr>
              <a:t>Steel  Strike - 1919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600200" y="6095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Coming Out of the Smoke” – </a:t>
            </a: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New York Worl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>
            <a:lum contrast="6000"/>
          </a:blip>
          <a:srcRect l="0" t="0" r="0" b="10148"/>
          <a:stretch/>
        </p:blipFill>
        <p:spPr>
          <a:xfrm>
            <a:off x="3100320" y="990720"/>
            <a:ext cx="4748400" cy="502920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rcRect l="0" t="0" r="0" b="10670"/>
          <a:stretch/>
        </p:blipFill>
        <p:spPr>
          <a:xfrm>
            <a:off x="1600200" y="685800"/>
            <a:ext cx="5715000" cy="480060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  <p:sp>
        <p:nvSpPr>
          <p:cNvPr id="419" name=""/>
          <p:cNvSpPr/>
          <p:nvPr/>
        </p:nvSpPr>
        <p:spPr>
          <a:xfrm>
            <a:off x="1828800" y="5791320"/>
            <a:ext cx="7086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Comic Sans MS"/>
              </a:rPr>
              <a:t>“</a:t>
            </a:r>
            <a:r>
              <a:rPr b="1" lang="en-US" sz="2600" spc="-1" strike="noStrike">
                <a:solidFill>
                  <a:srgbClr val="cc3300"/>
                </a:solidFill>
                <a:latin typeface="Comic Sans MS"/>
              </a:rPr>
              <a:t>He gives aid &amp; comfort to the enemies of society” – </a:t>
            </a:r>
            <a:r>
              <a:rPr b="1" i="1" lang="en-US" sz="2600" spc="-1" strike="noStrike">
                <a:solidFill>
                  <a:srgbClr val="cc3300"/>
                </a:solidFill>
                <a:latin typeface="Comic Sans MS"/>
              </a:rPr>
              <a:t>Chicago Tribune</a:t>
            </a:r>
            <a:endParaRPr b="0" lang="en-US" sz="2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209680" y="76320"/>
            <a:ext cx="6477120" cy="8222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383a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7162560" cy="8222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383a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Eurostile"/>
              </a:rPr>
              <a:t>Boston Police Strike - 1919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>
            <a:lum contrast="6000"/>
          </a:blip>
          <a:srcRect l="0" t="0" r="639" b="10000"/>
          <a:stretch/>
        </p:blipFill>
        <p:spPr>
          <a:xfrm>
            <a:off x="3135240" y="1143000"/>
            <a:ext cx="4713480" cy="480060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  <p:sp>
        <p:nvSpPr>
          <p:cNvPr id="423" name=""/>
          <p:cNvSpPr/>
          <p:nvPr/>
        </p:nvSpPr>
        <p:spPr>
          <a:xfrm>
            <a:off x="1752480" y="6064200"/>
            <a:ext cx="7315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Comic Sans MS"/>
              </a:rPr>
              <a:t>“</a:t>
            </a:r>
            <a:r>
              <a:rPr b="1" lang="en-US" sz="2600" spc="-1" strike="noStrike">
                <a:solidFill>
                  <a:srgbClr val="cc3300"/>
                </a:solidFill>
                <a:latin typeface="Comic Sans MS"/>
              </a:rPr>
              <a:t>Striking Back” – </a:t>
            </a:r>
            <a:r>
              <a:rPr b="1" i="1" lang="en-US" sz="2600" spc="-1" strike="noStrike">
                <a:solidFill>
                  <a:srgbClr val="cc3300"/>
                </a:solidFill>
                <a:latin typeface="Comic Sans MS"/>
              </a:rPr>
              <a:t>New York Evening World</a:t>
            </a:r>
            <a:endParaRPr b="0" lang="en-US" sz="2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Return to ‘Normalcy’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Kellogg-Briand Pac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nternational agreement against using war as an instrument of national policy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mall problem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No way to enforc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mmigration Quota System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Limit the maximum number of people allowed to enter US by foreign country (changes from year to year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Immigration Chang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4762440" cy="33526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709200" y="2170080"/>
            <a:ext cx="209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Red = North/Wes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Europe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Comic Sans MS"/>
              </a:rPr>
              <a:t>Blue = South/Eas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Comic Sans MS"/>
              </a:rPr>
              <a:t>Europe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Business of America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mpact of the Automobil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Paved road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Urban spraw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ndependence and economic revolu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irplan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lectric Convenienc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Radios ($75), washing machine ($150), sewing machine ($60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dvertising, credit, and consumer choic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ord Model T and Model A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1295280" y="2971800"/>
            <a:ext cx="2514600" cy="137160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5486400" y="2819520"/>
            <a:ext cx="2476440" cy="161928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1147680" y="4724280"/>
            <a:ext cx="215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Model 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15 million produced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562720" y="4761000"/>
            <a:ext cx="2606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Model A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2 million people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Viewed in NY on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First day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Attitudes of Post-War America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Renewed isolationism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ncreased suspicion of foreign-born peopl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ncreased political conservatism ( return to traditional value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urning away from progressive reform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ear of Communism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Communism – an economic and political system that advocates a single political party and state ownership of propert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685800" y="930240"/>
            <a:ext cx="7772400" cy="4843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685800" y="1384200"/>
            <a:ext cx="7772400" cy="39355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176"/>
                </a:solidFill>
                <a:latin typeface="Arial"/>
              </a:rPr>
              <a:t>The Prohibition Experiment</a:t>
            </a:r>
            <a:br>
              <a:rPr sz="4000"/>
            </a:br>
            <a:r>
              <a:rPr b="0" lang="en-US" sz="4000" spc="-1" strike="noStrike">
                <a:solidFill>
                  <a:srgbClr val="404176"/>
                </a:solidFill>
                <a:latin typeface="Arial"/>
              </a:rPr>
              <a:t>1920-1933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Caus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Various religious groups thought alcohol was sinfu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Need to protect the public’s health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lcohol leads to crime, domestic abuse, and job issue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Nativism – against foreign born brewers and immigrants that used alcoho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Effec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Widespread disregard for the law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ncreased smuggling and bootlegging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New source of criminal incom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Birth of organized crim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hibi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1287360" y="1981080"/>
            <a:ext cx="2605320" cy="411480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5029200" y="2590920"/>
            <a:ext cx="3510000" cy="2614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he Twenties Woma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ashio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What do clothing styles reflect?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ction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moking, dancing, and drinking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Relationship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Marriag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Double standar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Birth Control – Margaret Sanger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Work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10 million women workers (24% of the total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wenties Fash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104840" y="2139840"/>
            <a:ext cx="2971800" cy="379728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5010120" y="198108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History Repeats Itself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Parents feel their children are staying out too lat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Crime is on the ris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Drunkenness is a serious problem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People are risking their savings on stock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People are spending money on things they don’t nee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Young people spend too much time listening to musi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Young people don’t spend enough time on schoolwork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Women spend less time at home being wives and mother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Young people are going out in cars and it is unsaf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oday’s new music is terrible and ruining young peopl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Nice” girls shouldn’t smoke, wear tight clothes or drink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ntertainment of the 1920’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ports Hero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Baseball – Babe Ruth (60 HR in 1927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Boxing – Jack Dempsey vs. Gene Tunney (150,000 viewer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ootball – Notre Dame &amp; Knute Rockne (Five undefeated season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wimming – Gertrude Ederle – first woman to swim the English Chann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unney vs. Dempse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1523880" y="1479600"/>
            <a:ext cx="6216840" cy="5378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ore Entertainmen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Charles Lindbergh’s Flight – first nonstop solo flight across the Atlantic (34 hours = $25,000 priz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Movies – from silent to sound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Music &amp; Literatur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George Gershwin – composer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inclair Lewis – first American Nobel Prize for literatur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Ernest Hemingwa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Newspapers and weekly magazines (Time, Reader’s Digest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666520" y="609480"/>
            <a:ext cx="5257800" cy="4572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383a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Eurostile"/>
              </a:rPr>
              <a:t>The “Red Scare”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752480" y="6172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What a Year Has Brought Forth” – </a:t>
            </a: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NY Worl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>
            <a:lum contrast="6000"/>
          </a:blip>
          <a:srcRect l="0" t="0" r="0" b="9524"/>
          <a:stretch/>
        </p:blipFill>
        <p:spPr>
          <a:xfrm>
            <a:off x="3276720" y="1295280"/>
            <a:ext cx="4189320" cy="487692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</p:spTree>
  </p:cSld>
  <p:transition>
    <p:split dir="in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ass Culture: The Movies 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new culture of youth and celebrity emerged with the popularity of the movies.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3525840" cy="5029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ass Culture:  The Movi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3520" y="59432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Rudolph Valentino and Clara Bow- two sex symbols and film icons of the Jazz Age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4788000" y="1981080"/>
            <a:ext cx="2975040" cy="36021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1333440" y="1981080"/>
            <a:ext cx="2908440" cy="3602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ass Culture: Radio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s the popularity of radio expanded, advertisers began sponsoring radio shows to appeal to consumers.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By the end of the decade, 40% of homes had radio receivers. </a:t>
            </a:r>
            <a:br>
              <a:rPr sz="2400"/>
            </a:b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3182760" cy="4786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176"/>
                </a:solidFill>
                <a:latin typeface="Arial"/>
              </a:rPr>
              <a:t>Mass Culture: Music and the Music Industry 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952520" y="1752120"/>
            <a:ext cx="40388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s America developed mass culture through film, advertising, and radio, previously isolated musical styles blended to produce lively and often rebellious radio hits.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343400" cy="3749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African-America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Great Migrat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By the end of the 1920’s almost five million African-Americans lived in cities (40%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Huge numbers of race riots (25 in 1919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Goals – NAACP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otest racial viole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omote legislation to protect African-American right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1039680" y="609480"/>
            <a:ext cx="7062840" cy="5486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arcus Garve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ounded Universal Negro Improvement Associa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Promote African-American business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upport a ‘Back to Africa’ movemen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Black Star Lin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olonize a natio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Convicted of mail fraud and jaile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Legacy =  black pride, economic independence and reverence for Africa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Harlem Renaissa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Literary and artistic movement celebrating African-American cultur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Why Harlem?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Mix of southerners, West Indies, Cuba, Puerto Rico, and Haiti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World’s largest black urban community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Key figur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laude McKay – militant poe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Langston Hughes – poe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Louis Armstrong – Jazz musicia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uke Ellington – Jazz musicia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cience vs. Relig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damentalism – literal interpretation of the Bibl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dam &amp; Eve or a Monkey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volution theory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Creation theory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e Scopes Tria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ayton, Tennessee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he Defendan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2981160" y="1981080"/>
            <a:ext cx="3179880" cy="411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68120"/>
            <a:ext cx="8229600" cy="974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383a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Eurostile"/>
              </a:rPr>
              <a:t>“</a:t>
            </a:r>
            <a:r>
              <a:rPr b="1" lang="en-US" sz="4000" spc="-1" strike="noStrike">
                <a:solidFill>
                  <a:srgbClr val="666699"/>
                </a:solidFill>
                <a:latin typeface="Eurostile"/>
              </a:rPr>
              <a:t>Red Scare” -- Anti-Communism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133720" y="5743440"/>
            <a:ext cx="6629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Comic Sans MS"/>
              </a:rPr>
              <a:t>“</a:t>
            </a:r>
            <a:r>
              <a:rPr b="1" lang="en-US" sz="2600" spc="-1" strike="noStrike">
                <a:solidFill>
                  <a:srgbClr val="cc3300"/>
                </a:solidFill>
                <a:latin typeface="Comic Sans MS"/>
              </a:rPr>
              <a:t>Put Them Out &amp; Keep Them Out” – </a:t>
            </a:r>
            <a:r>
              <a:rPr b="1" i="1" lang="en-US" sz="2600" spc="-1" strike="noStrike">
                <a:solidFill>
                  <a:srgbClr val="cc3300"/>
                </a:solidFill>
                <a:latin typeface="Comic Sans MS"/>
              </a:rPr>
              <a:t>Philadelphia Inquirer</a:t>
            </a:r>
            <a:endParaRPr b="0" lang="en-US" sz="26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>
            <a:lum contrast="6000"/>
          </a:blip>
          <a:srcRect l="0" t="0" r="0" b="13846"/>
          <a:stretch/>
        </p:blipFill>
        <p:spPr>
          <a:xfrm>
            <a:off x="380880" y="1219320"/>
            <a:ext cx="4648320" cy="455904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he Lawye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952640" y="1981080"/>
            <a:ext cx="5237280" cy="411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he Outcom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copes – Guilty $100 fin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Darrow wins verbal war by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sking Bryan if God created the world in 6 days (as we know a day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Bryan’s answer cast doubt on the length of the day (which weakens the fundamentalist argument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1920s Review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acco &amp; Vanzetti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Causes/Effects of Prohibi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mpacts of the Automobil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Union issu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reat Migra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Harlem Renaissa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ouble standard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undamentalism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copes Tria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752480" y="380880"/>
            <a:ext cx="7315200" cy="5032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383a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Eurostile"/>
              </a:rPr>
              <a:t>“</a:t>
            </a:r>
            <a:r>
              <a:rPr b="1" lang="en-US" sz="4000" spc="-1" strike="noStrike">
                <a:solidFill>
                  <a:srgbClr val="cc3300"/>
                </a:solidFill>
                <a:latin typeface="Eurostile"/>
              </a:rPr>
              <a:t>Red</a:t>
            </a:r>
            <a:r>
              <a:rPr b="1" lang="en-US" sz="4000" spc="-1" strike="noStrike">
                <a:solidFill>
                  <a:srgbClr val="666699"/>
                </a:solidFill>
                <a:latin typeface="Eurostile"/>
              </a:rPr>
              <a:t> Scare” – Palmer Raids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981080" y="6172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A. Mitchell Palmer’s Home Bombed, 1920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>
            <a:lum contrast="6000"/>
          </a:blip>
          <a:srcRect l="0" t="0" r="0" b="11594"/>
          <a:stretch/>
        </p:blipFill>
        <p:spPr>
          <a:xfrm>
            <a:off x="3581280" y="990720"/>
            <a:ext cx="3592800" cy="502920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Return of the Kla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y 1924 membership = 4.5 mill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elief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Keep “blacks in their place”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rive Catholics, Jews, and foreign-born out of the country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nforce prohibi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ppose labor union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419720" y="685800"/>
            <a:ext cx="2927160" cy="5486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743040" y="1825560"/>
            <a:ext cx="341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Comic Sans MS"/>
              </a:rPr>
              <a:t>Picnic with the Kla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Comic Sans MS"/>
              </a:rPr>
              <a:t>Milwauke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523880" y="3809880"/>
            <a:ext cx="1828800" cy="60984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791320" y="2971800"/>
            <a:ext cx="2743200" cy="14479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Comic Sans MS"/>
              </a:rPr>
              <a:t>We promise a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8383ad"/>
                </a:solidFill>
                <a:latin typeface="Comic Sans MS"/>
              </a:rPr>
              <a:t>hot” lunch!!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4495680" y="609480"/>
            <a:ext cx="3924360" cy="285768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517680" y="990720"/>
            <a:ext cx="314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Comic Sans MS"/>
              </a:rPr>
              <a:t>Welcome not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Comic Sans MS"/>
              </a:rPr>
              <a:t>to a Madison, WI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Comic Sans MS"/>
              </a:rPr>
              <a:t>African-America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1295280" y="3733920"/>
            <a:ext cx="2832120" cy="23619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3733920" y="1523880"/>
            <a:ext cx="533160" cy="152640"/>
          </a:xfrm>
          <a:prstGeom prst="rightArrow">
            <a:avLst>
              <a:gd name="adj1" fmla="val 50000"/>
              <a:gd name="adj2" fmla="val 87323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402520" y="4313160"/>
            <a:ext cx="35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Comic Sans MS"/>
              </a:rPr>
              <a:t>What is the symbolism?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867280" y="5181480"/>
            <a:ext cx="1676520" cy="457200"/>
          </a:xfrm>
          <a:prstGeom prst="leftArrow">
            <a:avLst>
              <a:gd name="adj1" fmla="val 50000"/>
              <a:gd name="adj2" fmla="val 91673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Anti-Labor Moveme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Decline in Union Membership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Unions tied to Communist beliefs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Rise in immigra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Movement from rural area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xclusion of African-American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20:35:47Z</dcterms:created>
  <dc:creator> </dc:creator>
  <dc:description/>
  <dc:language>en-US</dc:language>
  <cp:lastModifiedBy>School District U46</cp:lastModifiedBy>
  <dcterms:modified xsi:type="dcterms:W3CDTF">2010-11-15T12:58:08Z</dcterms:modified>
  <cp:revision>20</cp:revision>
  <dc:subject/>
  <dc:title>Politics and Life in the 1920’s</dc:title>
</cp:coreProperties>
</file>